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F26-223E-43C9-B132-4F267FF5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02F-4BB3-426F-AFF9-854FA10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2AC-29C0-434E-B199-323BDE37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675-99AC-45A2-8391-3A496049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1B7-C137-4285-8203-0A0B6B71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907-1DE3-4649-986C-76C73538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BA2-6870-42DC-AC87-6CD9F3E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9FBA-3C3C-4D11-992B-84372521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3D48-E1A8-4096-B165-FB11F82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6EB9-624D-4F22-8D2F-C23EF6C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1B85-C6B0-4849-8B18-120F3B3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F41-FB95-49F1-B134-9BF1DC0A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8726-136D-42C3-A1B0-368406A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C7A1-6DB7-43A8-BA83-B98D3CC7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7A2E-EE56-445F-BBE5-B9449D1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983-F587-44F2-8DB0-534C69D7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310-3C5F-41DA-B6E6-4C80A67A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2C5-AF26-44B2-8CC9-692FDDD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CC5-1F33-4744-9B34-ACEE6D4D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D00-F1D7-48F4-A638-7090C04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D4D-8371-4E8F-9521-EB76680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4E6-46BF-4965-ADE2-96A622F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30D-6722-4695-898B-2A7B03D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EEC-A675-4232-A26D-965273F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6C23-CB1E-4816-A2BD-4E4511CE22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243D-0A0D-4256-9E4D-7C399EDD10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cticum’s Wonderful Teach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Nicholas Do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ward Desig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e it to make sure it is clear what topic we want to add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ing backwards helps keep things in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y had been stress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ed that there are 8 MI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ust be addressed when teach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d a good idea of adding music to my cl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prised that there were so many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overed new and different ways to ass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 Life, IMovie, GarageBand, simple rubr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we all know how we get some of those resul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79880" y="1600200"/>
            <a:ext cx="3375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at believing teaching was only done by writing on the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d a fear of talking in front of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ed at knowing that to reach every student, which is my goal, I need to teach in ways that are different from le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have no problem talking with all eyes on 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8:38Z</dcterms:created>
  <dc:creator>Student</dc:creator>
  <dc:description/>
  <dc:language>en-US</dc:language>
  <cp:lastModifiedBy>Student</cp:lastModifiedBy>
  <dcterms:modified xsi:type="dcterms:W3CDTF">2008-04-10T12:55:16Z</dcterms:modified>
  <cp:revision>8</cp:revision>
  <dc:subject/>
  <dc:title>Practicum’s Wonderful Teachings</dc:title>
</cp:coreProperties>
</file>